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EC4-7B7A-4507-A6C1-B9C206F4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2EA-A8F3-4E5D-BB5D-D8A490C1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732-9F3F-4613-8FDC-D3D9BF8A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24C-2054-4E89-A231-403155E1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080-B3F1-4F1A-AAE2-ACA5F60D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67E-DE9D-4C6F-8079-1CFA002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79C-8DB8-4103-B90F-594859B4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2CD-1575-4372-B672-A219758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BEF-6008-4AB4-9664-53519EB4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75E-3D32-4F32-9799-6AFFDF6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6AB-ADCA-4DCF-B24C-E45255E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ACA-4E38-40DE-B764-9F73A400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AAE-76D0-4CB7-95A8-877E59513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2.1.jpg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2.2.jpg"/>
          <p:cNvPicPr/>
          <p:nvPr/>
        </p:nvPicPr>
        <p:blipFill>
          <a:blip r:embed="rId1"/>
          <a:stretch/>
        </p:blipFill>
        <p:spPr>
          <a:xfrm>
            <a:off x="290520" y="0"/>
            <a:ext cx="856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2.3.jpg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2.4.jpg"/>
          <p:cNvPicPr/>
          <p:nvPr/>
        </p:nvPicPr>
        <p:blipFill>
          <a:blip r:embed="rId1"/>
          <a:stretch/>
        </p:blipFill>
        <p:spPr>
          <a:xfrm>
            <a:off x="641520" y="0"/>
            <a:ext cx="78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2.5.jpg"/>
          <p:cNvPicPr/>
          <p:nvPr/>
        </p:nvPicPr>
        <p:blipFill>
          <a:blip r:embed="rId1"/>
          <a:stretch/>
        </p:blipFill>
        <p:spPr>
          <a:xfrm>
            <a:off x="1746360" y="0"/>
            <a:ext cx="56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Box 2.6.jpg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Box 2.7.jpg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Van Belle_4e_Figure 2.1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00:33Z</dcterms:created>
  <dc:creator>conversion</dc:creator>
  <dc:description/>
  <dc:language>en-US</dc:language>
  <cp:lastModifiedBy>conversion</cp:lastModifiedBy>
  <dcterms:modified xsi:type="dcterms:W3CDTF">2015-01-14T08:01:29Z</dcterms:modified>
  <cp:revision>1</cp:revision>
  <dc:subject/>
  <dc:title>Slide 1</dc:title>
</cp:coreProperties>
</file>